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FC8-9768-4292-9B74-93EE575C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677-E8B3-4703-86D3-E906912C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B3B-7040-4A3A-944B-A66C3990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443-8D64-4DE2-9703-17936B17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82B-CB45-44EB-8ED1-983E646F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13D-C681-4ACE-9B71-BD38529D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353-E942-469C-9E17-AB382F87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97A-B4BA-47C4-91F1-5DB45CE0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C0D-2ACB-4A26-B3F0-99E8FBB4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340-5EF7-4255-BD4A-DAEE18B4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8C4-1653-4873-AE6B-65BA862B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8A5-E5E7-4BF8-AF37-04BC675C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9B2C-AC36-4F64-94EA-704DB3B43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tstripsforschools.com/" TargetMode="External"/><Relationship Id="rId2" Type="http://schemas.openxmlformats.org/officeDocument/2006/relationships/hyperlink" Target="http://www.bitstripsforschool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lickr.com/people/en321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21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itstrips For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itstripsforschool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8243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Verdana"/>
              </a:rPr>
              <a:t>Media Literacy Triang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2438280"/>
            <a:ext cx="2895840" cy="27432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7809800">
            <a:off x="3087000" y="3390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Verdana"/>
                <a:ea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3630000">
            <a:off x="4772160" y="3662280"/>
            <a:ext cx="18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Verdana"/>
                <a:ea typeface="Arial"/>
              </a:rPr>
              <a:t>Product</a:t>
            </a:r>
            <a:r>
              <a:rPr b="1" lang="en-US" sz="1800" spc="-1" strike="noStrike">
                <a:solidFill>
                  <a:srgbClr val="009999"/>
                </a:solidFill>
                <a:latin typeface="Verdana"/>
                <a:ea typeface="Arial"/>
              </a:rPr>
              <a:t>i</a:t>
            </a:r>
            <a:r>
              <a:rPr b="1" lang="en-US" sz="2400" spc="-1" strike="noStrike">
                <a:solidFill>
                  <a:srgbClr val="009999"/>
                </a:solidFill>
                <a:latin typeface="Verdana"/>
                <a:ea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9000" y="525780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Verdana"/>
                <a:ea typeface="Arial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6002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ll media messages are construction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ntario Revised Language Curriculum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124080"/>
            <a:ext cx="26668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narrative, recount procedural, persu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character, setting, plot,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values, bel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3124080"/>
            <a:ext cx="2361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copy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5867280"/>
            <a:ext cx="2590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target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638680" y="1600200"/>
            <a:ext cx="3276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ts – establishing (setting), clos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 – colour, 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b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nels – tilt, sha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tters – inferring,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 pattern -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4400" y="380880"/>
            <a:ext cx="4461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9999"/>
                </a:solidFill>
                <a:latin typeface="Arial"/>
              </a:rPr>
              <a:t>Reflective A&amp;E Question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914400"/>
            <a:ext cx="85341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Tahoma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tstrips  -  Assessment for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Bitstrips - Assessment of Learning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omic/Graphic Novel Genre – tool for differentiated assessmen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66880" y="4267080"/>
            <a:ext cx="4148280" cy="2422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35240" y="1714680"/>
            <a:ext cx="4673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35240" y="1714680"/>
            <a:ext cx="4673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6477120"/>
            <a:ext cx="465300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lickr.com/people/en321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2:17:18Z</dcterms:created>
  <dc:creator>OCDSB</dc:creator>
  <dc:description/>
  <dc:language>en-US</dc:language>
  <cp:lastModifiedBy>OCDSB</cp:lastModifiedBy>
  <dcterms:modified xsi:type="dcterms:W3CDTF">2011-02-11T22:39:19Z</dcterms:modified>
  <cp:revision>2</cp:revision>
  <dc:subject/>
  <dc:title>Bitstrips For Schools</dc:title>
</cp:coreProperties>
</file>